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mera.wav" ContentType="audio/x-wav"/>
  <Override PartName="/ppt/media/image10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B47-9769-4774-93C7-5A5B2C0C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36F-5E98-4340-A6A5-54868F38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9A7-FA4C-4705-95BF-141B3039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C92-3D8B-4CEE-B843-4D1E982C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87FF-1DE9-4742-81E2-D29FDDDA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1039-2FDC-4742-9329-714EEBB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EC1B-817E-4777-B923-A67F7210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712E-B098-4BCE-85BA-B60DB6AD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F660-F6FA-4B01-8505-F652EFD3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9A42-44BD-463A-B4D2-20B07DC1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6B28-996C-47E9-8932-6887A70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20F-939A-4E81-8404-38F93EF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08A6-FB3A-47F5-8AE7-0C8AB72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D42D-8FEF-409D-9CE7-919B562B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FA3C-42C2-47F8-B1CD-A9854033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6AF1-0561-4101-8ADF-B36CF2C0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D6AD-777E-4144-A521-8E702BA0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635-1561-4433-9E48-52999255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54E-6EEF-4B5C-8F57-9C8570B0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AEE-0491-40CE-8901-41FCFC56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349-E0A7-413F-B360-60361870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3D2-0C4B-4B3F-8816-D06C346B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02F-B903-40F6-ADEC-85F8031D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2BF-4663-482C-AED4-AFF55F2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A3B4-F9FC-42C8-B6D3-24F050F4502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8BD9-9ADC-4450-A3D7-E1FA2A52768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6708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ahoma"/>
              </a:rPr>
              <a:t>Energy Systems 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ahoma"/>
              </a:rPr>
              <a:t>for Exercis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runner" descr=""/>
          <p:cNvPicPr/>
          <p:nvPr/>
        </p:nvPicPr>
        <p:blipFill>
          <a:blip r:embed="rId1"/>
          <a:stretch/>
        </p:blipFill>
        <p:spPr>
          <a:xfrm>
            <a:off x="6346800" y="3124080"/>
            <a:ext cx="2343240" cy="3284640"/>
          </a:xfrm>
          <a:prstGeom prst="rect">
            <a:avLst/>
          </a:prstGeom>
          <a:ln w="0">
            <a:noFill/>
          </a:ln>
        </p:spPr>
      </p:pic>
      <p:pic>
        <p:nvPicPr>
          <p:cNvPr id="91" name="marion.jones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514600" cy="3325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ve Recovery from Exercise  (Cool down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s lactate removal because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perfusion of blood through the liver and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blood flow in muscles because muscle tissue oxidizes lac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  <a:ea typeface="Arial"/>
              </a:rPr>
              <a:t>Slow (Aerobic) glycolysi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  <a:ea typeface="Arial"/>
              </a:rPr>
              <a:t>(The aerobic system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Slow glycolysis is used if there is enough oxygen to allow a continuous supply of fu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byproduct of this form of glycolysis is pyruvate, which is not converted to lactic acid but is transported elsew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Pyruvate is eventually dissipated as sweat/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erobic/Oxidative Syst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upplies energy to the muscle through the use of continuous oxygen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ystem works at rest and during very low intensity exercise such as wal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is form of energy primarily utilizes fats (70%) and carbohydrates (30%) as fuel sources, but as intensity is increased there is a switch in substrate majority from fats to carbohydr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xygen Uptake During Aerobic Exerci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sharply at o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s off within a few minutes if pace is constant (steady s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demand met by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h01580j" descr=""/>
          <p:cNvPicPr/>
          <p:nvPr/>
        </p:nvPicPr>
        <p:blipFill>
          <a:blip r:embed="rId1"/>
          <a:stretch/>
        </p:blipFill>
        <p:spPr>
          <a:xfrm>
            <a:off x="5191200" y="1981080"/>
            <a:ext cx="27241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ximal Oxygen Uptak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(VO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Arial"/>
              </a:rPr>
              <a:t>max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gion where oxygen uptake plateaus and does not increase despite an additional increase in exercise intens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H01505J" descr=""/>
          <p:cNvPicPr/>
          <p:nvPr/>
        </p:nvPicPr>
        <p:blipFill>
          <a:blip r:embed="rId1"/>
          <a:stretch/>
        </p:blipFill>
        <p:spPr>
          <a:xfrm>
            <a:off x="5191200" y="1981080"/>
            <a:ext cx="27241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between oxygen consumed during exercise and amount that would have been consumed had a steady rate, aerobic metabolism occurred at onset of exerc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j0179009" descr=""/>
          <p:cNvPicPr/>
          <p:nvPr/>
        </p:nvPicPr>
        <p:blipFill>
          <a:blip r:embed="rId1"/>
          <a:stretch/>
        </p:blipFill>
        <p:spPr>
          <a:xfrm>
            <a:off x="685800" y="277812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xygen Defic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Order of energy productio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tial energy comes form ATP stored in muscles about 2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the ATP-PC system about 10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the Lactic acid system about 1 min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the Aerobic system 1minute on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3840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energy" descr="Energy Systems"/>
          <p:cNvPicPr/>
          <p:nvPr/>
        </p:nvPicPr>
        <p:blipFill>
          <a:blip r:embed="rId1"/>
          <a:stretch/>
        </p:blipFill>
        <p:spPr>
          <a:xfrm>
            <a:off x="609480" y="0"/>
            <a:ext cx="7543800" cy="6510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1752480" y="838080"/>
            <a:ext cx="335304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828800" y="914400"/>
            <a:ext cx="32767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752480" y="838080"/>
            <a:ext cx="335304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160" y="762120"/>
            <a:ext cx="3276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ergy-Time Continuu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work time increases, the percentage of energy contributed by the aerobic system incr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nergy Sour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Fo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 = 4 k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 = 9 k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= 4 k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erci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P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DP + P + energy (for muscle contraction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meal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751560" cy="4267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ood Lactate Thresho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 intensity at the point of lactate build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s aerobic exercise perform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rained ~ 55% of V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ed ~ 75% of V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j0182524" descr="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denosine Triphosph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ergy-carrying molecule found in the cells of all living thi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TP captures chemical energy obtained from the breakdown of food molecules and releases it to fuel other cellular proces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ells require chemical energy for three general types of tasks: to drive metabolic reactions that would not occur automatically; to transport needed substances across membranes; and to do mechanical work, such as moving muscle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hods of Supplying ATP For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ed ATP + PC (Creatine Phosphate) or ATP-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erobic metabolism/ glycolysis/lactic acid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erobic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TP-PC Syst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ort duration (&lt;10 secs) anaerob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s stored A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ngth/power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enishes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  <a:ea typeface="Arial"/>
              </a:rPr>
              <a:t>The ATP-PC syst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Active at the beginning of all forms of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Especially important in high intensity exercises like weight lifting that require short bursts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The source of fuel for the ATP-PC system is ATP and PC that is stored in the muscles.  Only a small quantity can be stored, so this energy source is only effective for activities that last ten seconds or l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Breakdown of carbohydrates for fu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Fuel stored in the muscle as glycogen / delivered to the muscle as blood gluc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Glycolysis can produce fuel for 30 seconds to a minute for moderate heavy resistance tra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ast (Anaerobic) Glycolysi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(The lactic acid system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Fast glycolysis is used when oxygen is in short supp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Fast glycolysis results in the formation of lact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n increase in lactic acid in the muscle can involve muscular fatigue and ultimately cessation of exerc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NGERI</cp:lastModifiedBy>
  <dcterms:modified xsi:type="dcterms:W3CDTF">2004-03-12T12:46:31Z</dcterms:modified>
  <cp:revision>55</cp:revision>
  <dc:subject/>
  <dc:title>PowerPoint Presentation</dc:title>
</cp:coreProperties>
</file>